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697A-FDE8-4BEF-B848-46508F1DF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astronomers.net/gs4-lifescience/animal-kingdom-post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iki.hicksvilleschools.org/groups/hsbiology/wiki/18f5d/Comparative_Anatomy_Projec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10 of the 17 major phyla of the Animal Kingdom, like Figure 5 on page 98 of text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esa.edu.au/echinoderm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ww.boundless.com/biology/textbooks/boundless-biology-textbook/vertebrates-29/chordates-171/characteristics-of-chordata-663-11884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ighered.mheducation.com/olcweb/cgi/pluginpop.cgi?it=jpg::640::480::/sites/dl/free/0072919345/63804/0623l.jpg::Phylogenetic%20tree%20of%20chor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File:Animal_diversity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academic.reed.edu/biology/courses/BIO342/2011_syllabus/2011_websites/CWEFEL_cephalopods/phylogen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ps.pearsoncustom.com/wps/media/objects/5697/5834441/ebook/htm/0cc6e.htm?18.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from: http://www.uic.edu/classes/bios/bios100/labs/animaldiversity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ochord Image from: https://www.boundless.com/biology/textbooks/boundless-biology-textbook/vertebrates-29/chordates-171/characteristics-of-chordata-663-11884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 Layers Image from: http://crescentok.com/staff/jaskew/isr/botzo/zoologyintro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kids.britannica.com/comptons/art-166804/Any-animal-that-lacks-a-vertebral-column-or-backbone-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haigoodview.com/node/49220?page=0,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4081-69DA-4C80-B5EB-A49100CF7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566B-CE03-4292-8FFD-D223A376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70E2-07D2-4B56-A739-4F1377092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C8FB-350B-4673-AF05-C398AD0F4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89D6-7F6C-4C1B-AFE6-2CF73131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676C-A13F-40CB-9FD3-8A06E490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693A-7FB5-4E02-8561-D90A5834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FE1F-0349-48BF-9431-0B85FFEE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3FCF-A7E2-4B84-A286-76E9E736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9D49-3CC7-401B-90B1-2A2D5FB2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CB30-0DA4-4D80-A908-9BDF5D13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ADA1-A9E9-42B0-B368-88E5F549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9517-B616-4E99-8684-A4F160FA4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24200" y="609480"/>
            <a:ext cx="5295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ostome Inverteb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hropoda (insects, spiders, lobster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matoda (pinworms, heartworm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elida (earthworm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lusca (snails, clams, octopu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ifera (rotifers - small aquatic anim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yhelminthes (tapeworm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uterostome Inverteb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hinodermata (starfish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12680" y="3200400"/>
            <a:ext cx="7040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lum Chor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 fish, amphibians, mammals, reptiles, b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00000" y="3048120"/>
            <a:ext cx="7344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gdom Anim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ellular eukary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mot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trop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plex of all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708440" y="1523880"/>
            <a:ext cx="33847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ce of 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s of food &amp; other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roles in ecosystems (e.g., pollina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logeny of 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49360" y="1600200"/>
            <a:ext cx="7969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Ances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2917800"/>
            <a:ext cx="777240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inguishing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ce of nerv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d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later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m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sto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uterost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846760" y="1981080"/>
            <a:ext cx="1411200" cy="1981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697360" y="4114800"/>
            <a:ext cx="1711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inguishing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266652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ce of notocho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germ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343400" y="1897200"/>
            <a:ext cx="4114800" cy="1920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200480" y="4114800"/>
            <a:ext cx="3714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68320" y="609480"/>
            <a:ext cx="7407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inguishing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ce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el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body cav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936960" y="1752480"/>
            <a:ext cx="3784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16:14:31Z</dcterms:created>
  <dc:creator>rubina khan</dc:creator>
  <dc:description/>
  <dc:language>en-US</dc:language>
  <cp:lastModifiedBy>rubina khan</cp:lastModifiedBy>
  <dcterms:modified xsi:type="dcterms:W3CDTF">2015-03-25T02:55:00Z</dcterms:modified>
  <cp:revision>60</cp:revision>
  <dc:subject/>
  <dc:title>The Animals</dc:title>
</cp:coreProperties>
</file>